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BB7-9E59-42EF-85A1-DF6F1C63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DC0-B6F4-4937-8FAA-1F0A79B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B0A8F-BA29-4163-A281-E226DA7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BC9E5-D3E8-463C-97B4-8AA3D9E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10D9-DEA1-44AB-B880-D805DD37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FAAC-B195-4B8F-9A27-DE9B0B5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F7D5C-C394-4271-82F0-DD39657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6DF3D-8D1D-44E7-B12A-1E87C52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7DD3-793E-4416-9132-0C258CF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C9880-2028-4DA8-AC46-D6DBA0EB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70A2-DCD0-4F3F-A486-D3E2211A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D5164-F9E2-411F-8834-A1FEF207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77F-F970-48BB-87D9-BB16176A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54E3C-8820-4C21-BF71-182BD8C6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422AC-E42D-4C43-AA75-BA260ECA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4EB98-AB18-4356-8690-86858636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45EB2-BC98-456E-A48E-6E0D5DE2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955EC-3E74-424C-965B-7FF65CB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7B77A-274B-4839-BBBA-F6F5C43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66F58-B3B4-4780-897C-6C33A37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382B-7E62-456A-8FF1-6DBC00D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B41C-4C4F-4644-ACF6-3D385C11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76756-7FE9-4EB6-A7D8-8E37DCFC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566-C2B8-4C53-A20E-6AE2B86B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66C29-C639-4F76-AF16-D0B7FB55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F7038-0C72-4629-9F01-FAAA24D4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B398-05BB-45EC-B96B-E591F961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FC3C0-C056-4B82-BA50-178DBB8E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5EE5-A125-453D-B804-8B805726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648B-CD82-45BF-AB09-5F61621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965E-D41C-436B-B7DB-F803A65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34AF-AF1F-49E6-9E57-7DF4203D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159E-327D-4147-8ED2-78B2D85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E69A-0721-4773-92C2-3E27FD1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63B-2751-4EEE-B886-A65B2E70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17DD0-60B9-48CE-9AA8-6816E89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BDCF-C9DF-4B62-87D8-759CF4E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0DE4-2451-4CF4-8A5D-89363F3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8387C-595F-42C5-8D1E-9F11B68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31781-6614-4AF4-9FAA-1CAE7CF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4DE3-19AF-4E2C-BEAA-15D69C07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10ED-7DAE-4C6C-B9F1-F8C6736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F75C7-0898-449E-B8F4-6FCA43E7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E41BD-51A9-4546-972C-32DE35B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AC5A0-05CF-4E34-934E-6090F90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818-C0E5-4654-97B1-39E7446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BEE9-6E87-4D7B-BBAD-E96F722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9945-408E-4DA0-8D35-8D7CF77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CFFCE-38FB-4CC6-9365-E0B2763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5DB48-2B31-479B-A6A0-ACEA4B1A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22FF2-B71E-4472-A6A2-43E3996C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C5E-E564-4708-846F-4E1EBB1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3549-C442-4C55-9470-891B7F9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ED54-2D5C-418C-AD9D-14908A2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36EE-730A-4A93-8C6B-8B575E13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51C-63E1-4870-811F-C7C27D1E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46E-C427-442B-BF2B-4291F6A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7DAF-4305-416B-9B9E-EE4DEB8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738-7BA4-41CA-945E-CC89338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F7AE-9636-431F-96CB-7726CD5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312-8C82-4205-A27E-E0DDF747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6A9-1085-4AA0-B85E-004A3572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96A2-E2C6-49B8-AC99-EE9468A1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2803-1710-4265-A18A-66D0898F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42D0-D1B1-4429-B446-6A3A5FFE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61BD-8F0A-4F8D-BB73-66A3A723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BDFF-1C7A-43F7-B3F0-F6A5F45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670-E474-4A1E-82CB-B0420C6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F4F7-0E1E-403E-A161-342657A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5764-2ED7-4749-957E-D82F27C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355B-A74C-4D65-87AF-C7DBFA4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08A8-3E3E-4971-B706-390CC45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31FA-D560-40BB-87F8-84F9EE0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611B-B70C-4179-B9CC-AD4D6FFB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03A9-23DB-458F-AF11-953EDE32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9321-0D5D-4F5D-A4EF-647CBFE2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958F-88B3-4A77-A660-58ADD22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199B-A0DB-436A-B28E-D40B0CD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FE5-F02B-44E7-AD8F-FA18451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735B-6193-4F6A-98A6-5547B40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32C0-0982-4009-9EA9-E3493E8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321F-133D-43A4-B357-270E770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0FB3-FC3D-45B8-88CC-B924908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01DF-BEE0-4E61-8D40-70A3361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BEB7-3A87-4926-B2CD-7E4DF17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CEA4-2084-4C20-B1D7-9026CBF6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4248-5E0C-4C08-BAD3-5F37F627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0C1E-D86A-4D6D-BBE9-8CC3518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9C6E-3757-4F32-8AF0-ED9EDBE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A96-7AF4-4354-BBCB-CD2C5655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1B64-1698-48B0-8C1D-4844DD73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4E82-895F-45B0-BEAC-B669CB0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E1C1-8A90-4D9B-B924-C27B65E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4083-70E1-4462-8FF6-88D9AD4C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4AA3-9826-4F35-A2EB-C2121F7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18E6-E868-461E-B512-C41FD99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E7A2-9625-4D21-9468-C675909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4B01-DAF8-4CD1-8E94-0B58AEFD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E20A-6629-4EDD-BF4F-D292066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923E-7FFE-4306-81FA-F2CDF90F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AD8-F930-45B9-90B3-8B0E191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979C-C180-425F-9A46-F8AFCFB4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54A6-9BBB-4F96-BACF-C1061EF4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5416-16F6-4C84-BBF5-EAE8F18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D41C-5366-40E7-92F1-4F1D31E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69F8-0C43-4D07-92F0-5DC647C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0E6D-CBB5-4A0B-B405-91F0F97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B352-2394-4F7F-8354-B694E55F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A63B-B502-4A48-B663-2E9F537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EBF1-6471-45CB-95DF-58FCDB5A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B232-61D7-40A4-A389-DBC56C7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489-A47F-47E1-A915-8BDD6A9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3E70-6838-4632-80B5-4805481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E748-3B4E-4DF4-8332-F6E287FF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F85F-476D-4FF4-A09B-3781A5D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E045-482E-4A6A-880D-5C571CA0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CAAF-CFB6-4536-A468-94F7F1C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2641E-59BD-4FA5-BEE9-AEF3CC54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C04A-9C1D-404C-A0F4-79800DA8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931C-FB22-428E-BB62-6B8E0702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17D6E-F7B4-4CC5-BF2D-8B1882B2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15339-2897-4C4C-896B-9DD76D8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0CE-39B6-47E4-9A6C-3F6381E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7A86-64E8-483A-84DA-29A44FE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0B61C-9284-4140-941F-6DB5570A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3C5D-BA43-4FF0-AEF0-4BC0724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DC61-43BD-4E5E-98AD-1B34ABA0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1876-54C2-4718-B12A-40CB89A6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3A48-F5F4-41F9-8C63-8B37CA05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BE11C-CE25-4FBF-9F7C-ADF8616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4647-5000-4724-9BA0-4600199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B3F95-2247-4319-A7E5-223E9CE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D0D7F-2819-45CE-80A1-13D7B07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66B-2338-47DA-9893-DD238D7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A18AA-033B-4D16-B829-0F44BD4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5542F-25C6-4C7A-B267-3DB05F3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77D6-D07C-4688-ADAC-7DBE01F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3767F-22CE-479D-91A7-4BB12FA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E3CA-7B58-447D-99C0-DD068A4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81C9-8CF6-4E19-9F33-0A21258C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1034D-A3E3-4CEB-BBDE-5B280499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C13D0-F8C6-43D6-821E-9A351A83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952E6-C8CF-4A3D-B82A-2EBD0CA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E706-7B27-4E86-9CAB-51B1A2C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30D-A3FD-4FF5-85A4-96A6BBD3B4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CF4-1EA0-41AA-B9E8-A9903878ED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B68-94FA-4635-AC1B-D7DBB55330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6C2E-AFD2-456D-9CE2-74D0559AFF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1A0-58EE-4611-9A1B-CDDD03E9F8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5A3D-0D40-45FB-A503-F2B0CA95BC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C8F-60DC-46A3-82FB-172BDFE293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1EE0-0CCC-4F20-846A-78A6938992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25B-C60B-4ABF-8E51-95092FEA7B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17E-D319-4C0B-A981-B867AA14E2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F04-B52E-41C8-A618-9C34DC870BE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5424-FCFB-4205-ACDD-2319904F88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7 Tvojím chce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rahý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moje zmocn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 ňom stále túžba pl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ieť vier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e rúcho nie je čist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bohý je odev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ráč ma odiať,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 vzývam, chcem byť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môžem kráčať sm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ma zvádz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om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i vodcom v žití cel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keď neviem, čo ma ča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a či tráp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čo mal by som sa ľakať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premilý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51:26Z</dcterms:modified>
  <cp:revision>22</cp:revision>
  <dc:subject/>
  <dc:title>Je veľký náš Pán, on slávy je Kráľ Nech do všetkých strán  spev vrúcnych znie chvál.</dc:title>
</cp:coreProperties>
</file>